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135-E95E-41E2-849C-5F3FC5AA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E7AD-75E2-400B-B90F-D79D70C5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87AD2-C8AA-4C71-83C2-CB77E157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75FB7-08FB-47A7-9FB1-33F1D972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804C7-93A4-4B70-9424-7611612C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3BC26-DED4-4BDE-A173-EAFD6660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5E452-E160-4500-BD27-A452DF12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D3785-3E70-4D39-A642-6C185831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9FA43-9597-4272-8A33-8DDC6D75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3AE84-E8A5-4D33-AF9E-A87D0511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45E70-049A-44F6-91C0-6EDEC308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7DC98-F9AC-46F0-99AC-302CC543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AC9-6809-4370-BFAF-91BE4158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633E6-3292-4D22-AC95-DD1C5DE5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1FB2A-A8EF-43E4-87BC-434A55CF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8290A-6B01-4346-9CF2-C120C914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EEE76-7123-43DC-98C5-5267E55A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E330F-2DB6-4420-A917-97E3E693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E78D6-4D1C-409E-8CEF-98985C56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D8E46-8451-4BE6-BCAF-289295BE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D3FE9-9188-48C7-80B2-DC73C481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54701-4941-4959-8385-255C6800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32C92-E02A-4655-BEB2-2B8CBC00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070-16AA-4594-86ED-E4C6FD05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C7D6D-9126-4404-8CEE-C9FB7903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A75605-D365-415A-8487-E92740AA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404289-7545-47D7-9EB8-36B2E920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F54088-3F80-4B28-A5DF-491A611E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617FBE-F287-4DAE-8F50-3E68BE4F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BD9EF8-1F78-451C-9A99-4A684ED6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B4AE05-7F54-4D74-A358-F0B7BCB4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1C2B16-9FBE-4EC1-B6CD-A32AE5B9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AC0E47-E2D4-426E-8617-ED4839A5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39C6EE-563D-4F02-9146-FDEA6408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4A63-C54E-436F-B7E8-2014587D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1E3B76-CA03-4074-9AC2-9791829D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6C6A39-F550-44F8-9A0B-921B380E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D31AC7-E905-452E-A175-993868BF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769AE-5CA6-47E9-986B-009A228E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899DE-EFE2-481D-A07C-DAA54C99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0C241-9D83-4DF9-8414-4A7E169C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11ACE-F394-4167-A9B2-3B21676A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EDA2E-4CFF-4701-9509-DEDF5AB1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46123-97F9-4485-B735-F5356D88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2DFEC-2925-4886-8248-244360A7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CA69-8F49-4A49-884A-30BAF21F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77F86-FA78-4C5C-882D-15A158F5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0CBAD-4F7E-4956-B0E3-45D06213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53CB2-EA6E-475F-935E-3233F47B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849EB-9A3A-4F39-B4A7-A1DC6986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05C96-0E28-4A21-B14E-B1796EAB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9DA3C7-28D4-4D83-B54A-761CCF9D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CA1CA1-335D-42BD-B457-A342A404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22311D-D773-4CD9-B10F-886E5F26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0179CE-278B-4363-B853-B555203C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C1D7C4-DBC1-46BE-A5B5-E53A92CB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8EFC-2230-4C92-89EE-0A46818A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511CEB-CE97-4B89-B4DC-CFEE828B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6C115A-B872-4B8A-B17F-1620D7B2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1DBC80-7E0F-4CE6-A8CD-55166F88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F9FD0F-B56E-4CCF-9387-8C57976C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EA849F-3C97-4AAA-B96F-E982BBAB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7A50C9-E441-46EB-9A11-0778F636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B97F35-B0BF-41ED-9696-E41AF8C8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AAEEAC-B424-4B51-8F09-65669B3F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6C4AD-733E-437B-8F1D-533BE570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030B7-DA16-420C-B43A-5C346D8C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003B-8AA9-4634-B924-93F3BCF5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F7C486-2622-4FE3-94D3-64E6E99E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48DE8-4E4B-43EA-935C-C44745BB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FB5C34-2DD9-40B3-8F55-E91B9860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C6F1D-2C65-4378-A183-A0FA27A0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9AFFDB-F3CE-4451-8F00-8EFFD2D6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2C33D3-958D-47CB-B961-FAD0A893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231492-00F7-499F-8310-A48DC9DF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824F8D-9B97-45AE-BD94-52377317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ACCAC-2BBB-4D3F-9F79-780E896D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F46F-F6D9-43D3-BECA-D5299CE0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8CF0-7C30-43BD-A87B-FE9BCCD8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504C-E92C-4AD3-952A-32D1A2EE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C8A-9F90-47AC-8E2A-D54EA5D8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AB4C-E983-41AC-9525-00088D97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C199-0264-41EA-B576-E32413FE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9629-34C0-4194-AD69-4C502134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79D9-72F3-4478-AA5A-5872B914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E3C1-FF23-423F-95D1-7B7A2144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AD38E-4C3B-45B3-9C40-D1D4E789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9157-D8BC-4943-8FF9-67BA4D99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2A0B5-5804-4B51-8547-D71697AB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4085-2F4B-4B78-A49E-080DF373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C0DF8-8BC5-4387-BDDF-4EB07FEE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EE1-36B1-4287-BA1F-4D2B3930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E7784-1FE9-417A-9A2B-6E6A395B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EFCDF-890F-4D60-ABFE-3A6AE8DC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DC8EF-117D-4F72-BC2B-410078F5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34303-40DE-4DC4-AC8A-DD567B46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3F9F-AAF7-46AE-8A16-AB83C246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32F9B-AE11-4CD6-8CA2-31D2CF41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1AC30-934C-41BF-8184-28D14D27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224FBE-4375-41A6-B1DD-E10BDD46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D7A1B9-6C43-44EA-9FD2-7706D1EB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233A10-5A96-4C8A-A2BA-60EE7914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DF9-6D06-4EB9-BB97-D69F0013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599FB-5576-4C34-9C8C-1E70CA8A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94D5E-91CB-4E17-B351-6D3D0567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EA0BAF-2E47-46C2-939C-BCE66EB5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D74A2F-CE2F-46E9-9DE4-D61A1724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8AF5BA-4E76-4636-94B4-B4E776FB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B637DA-A665-4221-84D8-5A2AE836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1BA19-564A-49AD-8485-047BEB38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95E0F0-7458-4F72-A014-DC66C69F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14EFA6-C4E0-4D53-B53A-628136E4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C337E-B15B-42DB-AC50-2C1078C8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CBE-A3B3-460A-944A-799DC572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53175-20C1-4812-9348-002C45EA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A7313-B520-4A37-AFED-84C70794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0B83E-CB74-4296-8DFA-DF4CE797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363E8-7296-4E04-A12A-575E3502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5B509-50D0-4547-92F9-954F9BA3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AF40B-C8EB-4EAF-86CA-C7011945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A847D-E992-4881-BBB7-B11E19C6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56CAA-363C-455E-87FC-CB9A1B9E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92470-BD7A-4D23-992F-271ED46D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9B5A8-35AC-4DC9-BBF4-1E558CD3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8EB4-A16B-42BE-B107-987422F9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1770A-7341-44A1-AB71-D7FDCCE9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19C96-647A-4224-8503-7BE2200D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AB06D-AAD9-4439-97A6-39705123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2960F-B62F-4A69-9E49-784683D6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04E66-50AF-425E-A110-64262104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82929-D66A-4114-A371-5F51BD7B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EDBDA-4010-45F4-ADD5-3F1165AC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6321D-AE77-43B4-A175-10A90915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CC90B-9C9C-406B-A36C-F5D3E5F8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77B0A-16B7-4865-9DC1-FECC2FD6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D51-BEE8-44D8-A827-4E227A87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57590-0481-4AAC-A5DA-DD0FFFE5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B48C3-00AB-4117-A666-BD3A0978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08018-05E6-4E2D-8657-26413A1C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1D6BC2-3DF8-44CA-9DA6-2DF55107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015814-3975-49C8-B7F8-31276D36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F985C7-745C-466C-8BAE-0F3EA464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9F4FD9-F84F-4528-9320-FF098723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99313D-70E1-46CD-AD29-DD51A443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C10647-8BEB-438E-8C82-9960E653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402BA-F5AF-4426-AFDE-E3B64B04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025-B608-457B-90FA-A08F0368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83520B-5F97-4C30-9379-A263452B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127C4-BA25-4B33-B726-4DB892BF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010396-3ED1-49F2-B14A-3FC59886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574F1D-7554-4C09-A3A7-4C191474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1C8756-8AA3-45EC-8A42-8BF6437E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2F919-804B-4ED0-9BC1-6EBCBE51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53DB1-1864-40D9-83ED-25864DE1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75253-446B-4961-A321-0D171440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66631-77B5-457B-95C3-8100E8B5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54391-C219-4799-B2AF-CAD19E99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84D-F81D-4CD4-A271-F4DED1BF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4B08D-CE19-4983-8F82-1FDCC437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9D534-026A-4B59-8D73-7E85965E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5E6B0-4C2D-4B75-9204-D235EEC5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CB40D-68CA-4A3F-A27C-1CFDA64D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DDF47-D0A4-4AE3-B0F5-48FD50F0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9FC56-2B8B-4AB4-95CF-741C4375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D414F-69BE-48B3-8CD6-32AD883F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65B7D-C4D6-474E-8DE6-F303B588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5E0F6-A683-4E2F-A02D-DD7EB00E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3BA72-CE4D-46EF-98D5-DFFD0D18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4A38-E81B-4780-B7ED-00E147B566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5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1594-A22A-45AB-8B30-F2C5A25695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0560-4DEC-44D5-A5B5-CB81EACA68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0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0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0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4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4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A652-3CD4-482B-9717-2AA4620EB2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797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12" name="PlaceHolder 1"/>
          <p:cNvSpPr>
            <a:spLocks noGrp="1"/>
          </p:cNvSpPr>
          <p:nvPr>
            <p:ph type="sldNum" idx="3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73C8-65AD-4C21-BF7E-00119EF903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dt" idx="3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ftr" idx="3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054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D180-E17A-4795-9AD2-6A20B64A23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4939-C45B-49FD-9300-86D1A4FBFF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15BD-B00D-4346-AB70-8F7FC66F7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52D3-94E7-42F5-A386-5147C28B0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9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1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1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3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7A23-BBC9-4CA8-AAA7-597A758BF4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9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9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0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1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1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3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5361-E9E8-4578-AFA0-12F592EB42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8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B0C1-B0B7-4F56-8DBE-8079E9F0A79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8AE6-66AA-42CF-B9E1-B2B97A57CBD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1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5796-3C44-467A-8C7F-1D4E0F3256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r nick shibel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a Ba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  <a:ea typeface="Arial"/>
              </a:rPr>
              <a:t>ñ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o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a la Bano es muy nuevo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4025520" y="1598760"/>
            <a:ext cx="3624120" cy="449712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3"/>
          <a:stretch/>
        </p:blipFill>
        <p:spPr>
          <a:xfrm>
            <a:off x="3733920" y="1600200"/>
            <a:ext cx="4038480" cy="43815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8153280" y="-609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a cuar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u una la cuato es muy incre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384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ocin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ina la cocina es muy bello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2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323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 pati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el patio. Es muy nuevo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2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7" dur="2000" fill="hold"/>
                                        <p:tgtEl>
                                          <p:spTgt spid="1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sal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la sala. Es muy fabuloso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33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casa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 una la casa.es muy bel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rdi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s una jardin. Es muy estupendo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4645080" y="1598760"/>
            <a:ext cx="4037040" cy="4497120"/>
          </a:xfrm>
          <a:prstGeom prst="rect">
            <a:avLst/>
          </a:prstGeom>
          <a:ln w="0">
            <a:noFill/>
          </a:ln>
        </p:spPr>
      </p:pic>
      <p:pic>
        <p:nvPicPr>
          <p:cNvPr id="133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5:12:48Z</dcterms:created>
  <dc:creator>shibelnic</dc:creator>
  <dc:description/>
  <dc:language>en-US</dc:language>
  <cp:lastModifiedBy>shibelnic</cp:lastModifiedBy>
  <dcterms:modified xsi:type="dcterms:W3CDTF">2011-10-25T16:12:57Z</dcterms:modified>
  <cp:revision>3</cp:revision>
  <dc:subject/>
  <dc:title>Slide 1</dc:title>
</cp:coreProperties>
</file>